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50E6-4CAA-4171-80F4-A8E75DC41B9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A391-07A8-48B9-94D5-3DA4F9914E7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F987-7339-43E7-AD1C-F887CE09361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FB27-8DDD-4E86-9F53-DECC1A0CBB2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23FE-399A-48EA-BB77-8DBFF539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55EC-F0D0-4522-B779-7D2116DD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74A-6B15-48CB-B706-0E3C72B2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D330-2EAD-47CA-84B0-E9A278FE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C77A-476B-4CD7-87E4-0833CE46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96B3-71E8-4D18-98B2-3B11D3EB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1A24-27A9-4882-B23A-103188BA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4C78-09C7-4C10-8626-7EF67444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E73F-73C9-4BC7-BD3E-AA6DEF7B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9FC3-1F74-49E6-B884-8A2DD0E5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5FED-B783-4A05-8E53-F29E0137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CCBA-50E3-451E-A429-43EC7513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49D6-5AD2-4399-B356-EB1DEEE7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CFAC-D7BE-4956-ADAC-660D9CBD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9FF4-F5A6-4325-A3EE-2FF0C8C3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2811-87ED-4ECA-94C4-738EC85B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C0A0-71C0-45E3-B15F-E7C83069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23C2A-1518-4DD7-ACE8-6D00138A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9098F-C867-4A1C-B351-B7670079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9FEB3-19C5-4E62-9E45-FC3E9504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87793-1833-4FDD-ACDD-B111A117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64FC9-C83B-4D32-8676-742DE6DE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E3E-2A98-4AE1-AEFD-925F1FAE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C3FDD-6530-4CA7-B6D4-47A8B154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CEDBE-9B76-445E-AB31-D09EEC02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69A47-3005-4C8A-B90C-4218C37D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0C1F6-3B3D-4BB9-A41D-CBD5AEA4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DBFEA-3BFE-4427-B88B-FCB82B60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AF0FB-EA0A-4155-80E2-BE8588BB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7F9E7-7278-44C7-8D9D-D6CED3D0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64544-5D15-4CE9-97DA-EA74BB82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23A6F-4C8F-4171-98B9-868D47CA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390DA-1A57-4120-9259-7FB8736F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4712-3240-4F0F-A46E-45CD5BEF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6B2BF-5E1A-44FB-81E1-9786803B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9EF36-00B7-44D6-A302-105EE14E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731C1-DA2F-4061-9D81-28A77F9C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E46FF-2487-4567-996B-390D8E77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647F5-C3BC-49C2-9D82-10336761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8A1AE-82A3-4D82-9E4E-ACBB1B8E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BDCEE-F96E-49B0-8FEE-5C979210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854B4-4600-4246-A05A-C41CCAD8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FC850-A5C3-4A92-A699-419EFED8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7C2C-4BBA-4E90-B7B8-0B16700F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363-4EB1-40E2-AE14-8896F732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CC23-68C2-4228-92E6-9BE68E1E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817E-29E8-41B0-8FF2-D6B1A47C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D30D-B23E-4127-948C-FA5228BF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E5FF-1416-4508-AC84-7751EB3D3A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62C5-41E8-40AC-9F13-26825748B787}" type="datetime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04E4-6E6C-4F7F-8B1B-4C3B9FC4DB62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5086-9845-4572-86FC-C189454BEE5A}" type="datetime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615D-D5DF-4DEA-9C3F-23F29F1B5CE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D69A-93BC-46D6-89DF-F7B34AEFBA8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t.wikipedia.org/wiki/Lingua_ceca" TargetMode="External"/><Relationship Id="rId2" Type="http://schemas.openxmlformats.org/officeDocument/2006/relationships/hyperlink" Target="http://it.wikipedia.org/wiki/Macchina" TargetMode="External"/><Relationship Id="rId3" Type="http://schemas.openxmlformats.org/officeDocument/2006/relationships/hyperlink" Target="http://it.wikipedia.org/wiki/Antropomorfismo" TargetMode="External"/><Relationship Id="rId4" Type="http://schemas.openxmlformats.org/officeDocument/2006/relationships/hyperlink" Target="http://it.wikipedia.org/wiki/Uomo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t.wikipedia.org/wiki/Fantascienza" TargetMode="External"/><Relationship Id="rId2" Type="http://schemas.openxmlformats.org/officeDocument/2006/relationships/hyperlink" Target="http://it.wikipedia.org/wiki/Stargate_SG-1" TargetMode="External"/><Relationship Id="rId3" Type="http://schemas.openxmlformats.org/officeDocument/2006/relationships/hyperlink" Target="http://it.wikipedia.org/wiki/Stargate_Atlantis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t.wikipedia.org/wiki/Umanoide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L A FANTASCIEN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7" descr="star_wars_03_1024"/>
          <p:cNvPicPr/>
          <p:nvPr/>
        </p:nvPicPr>
        <p:blipFill>
          <a:blip r:embed="rId1"/>
          <a:stretch/>
        </p:blipFill>
        <p:spPr>
          <a:xfrm>
            <a:off x="1476360" y="2708280"/>
            <a:ext cx="3781440" cy="331308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Segnaposto contenuto 3" descr="astron.jpg"/>
          <p:cNvPicPr/>
          <p:nvPr/>
        </p:nvPicPr>
        <p:blipFill>
          <a:blip r:embed="rId1"/>
          <a:stretch/>
        </p:blipFill>
        <p:spPr>
          <a:xfrm>
            <a:off x="1979640" y="2060640"/>
            <a:ext cx="4896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I personagg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ossono essere uomini, animali, macchine (come ad esempio i robot o i computer) o creature immaginar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o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“strano”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, ossia lo sconosciuto, il diverso, che è uno degli ingredienti più avvincenti dei racconti di fantascienz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ROB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C:\Users\Marco\Desktop\asimo.jpg"/>
          <p:cNvPicPr/>
          <p:nvPr/>
        </p:nvPicPr>
        <p:blipFill>
          <a:blip r:embed="rId1"/>
          <a:stretch/>
        </p:blipFill>
        <p:spPr>
          <a:xfrm>
            <a:off x="2963880" y="1600200"/>
            <a:ext cx="321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ROB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robot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(pron.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ròbot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robòt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dalla parola </a:t>
            </a:r>
            <a:r>
              <a:rPr b="0" lang="it-IT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ecoslovacca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robota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che significa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lavoro pesant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) è una qualsiasi </a:t>
            </a:r>
            <a:r>
              <a:rPr b="0" lang="it-IT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macchina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(di forma più o meno </a:t>
            </a:r>
            <a:r>
              <a:rPr b="0" lang="it-IT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ntropomorfa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), in grado di svolgere più o meno indipendentemente un lavoro al posto dell'</a:t>
            </a:r>
            <a:r>
              <a:rPr b="0" lang="it-IT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uom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REPLICATOR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O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REPLICANTI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sono una razza aliena immaginaria apparsa nelle serie di </a:t>
            </a:r>
            <a:r>
              <a:rPr b="0" lang="it-IT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fantascienz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targate SG-1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0" lang="it-IT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targate Atlantis</a:t>
            </a: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Segnaposto contenuto 5" descr="stargate.jpg"/>
          <p:cNvPicPr/>
          <p:nvPr/>
        </p:nvPicPr>
        <p:blipFill>
          <a:blip r:embed="rId4"/>
          <a:stretch/>
        </p:blipFill>
        <p:spPr>
          <a:xfrm>
            <a:off x="1979640" y="2133720"/>
            <a:ext cx="46083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MUTAN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mutanti sono delle creature (in genere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manoid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), che grazie a mutazioni del proprio DNA - incidentali o create appositamente in laboratorio - assumono, fin dalla nascita, delle caratteristiche diverse da quelle degli individui normali, o degli esseri viventi della medesima specie, generalmente conferendo loro abilità superiori, capacità atipiche per la specie a cui appartengono o facoltà al di sopra dell'ordinario (poteri o superpoter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alcuni casi vengono caratterizzati da un aspetto mostruos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MUTAN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Segnaposto contenuto 3" descr="New-Mutants-la-Fox-prepara-il-film-sui-Nuovi-Mutanti.jpg"/>
          <p:cNvPicPr/>
          <p:nvPr/>
        </p:nvPicPr>
        <p:blipFill>
          <a:blip r:embed="rId1"/>
          <a:stretch/>
        </p:blipFill>
        <p:spPr>
          <a:xfrm>
            <a:off x="2843280" y="1628640"/>
            <a:ext cx="2959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040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YBORG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Un personaggio cyborg della serie televisiva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Star Trek: The Next Generation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: Locutus dei Borg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Segnaposto contenuto 6" descr="220px-Jean-Luc_Picard_as_Borg.jpg"/>
          <p:cNvPicPr/>
          <p:nvPr/>
        </p:nvPicPr>
        <p:blipFill>
          <a:blip r:embed="rId1"/>
          <a:stretch/>
        </p:blipFill>
        <p:spPr>
          <a:xfrm>
            <a:off x="2987640" y="2492280"/>
            <a:ext cx="28875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CYB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termine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cyborg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organismo cibernetic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(anche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organism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bionic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) indica l'unione omeostatica costituita da elementi artificiali e un organismo biologico. Nasce dalla contrazione dell'inglese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cybernetic organism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per l'appunto organismo ciberne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Esempio: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il protagonista del film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RoboCop - Il futuro della legg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è un poliziotto che, ucciso in servizio, viene fatto resuscitare trasformato in cybor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protagonista di Io, Robot, l'agente di polizia Del Spooner, ha un braccio e altri organi ciberneti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Il genere fantascientif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197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sce nel </a:t>
            </a:r>
            <a:r>
              <a:rPr b="0" lang="it-IT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1926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quando negli Stati Uniti si pubblica per la prima volta una rivista specializzata in racconti di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cience fiction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(termine inglese per fantascienz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’ un GENERE LETTERARIO in cui si fondono SCIENZA e FANTAS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rende racconti o romanzi che nei confronti del progresso tecnologico manifestan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iducia ottimis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ondan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JAIME!!!!La donna bionica!!</a:t>
            </a:r>
            <a:br>
              <a:rPr sz="44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 seguito ad una caduta con il paracadute, le vennero  sostituiti un braccio, una gamba, l’orecchio destro con arti bionic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ivenne un agente segreto con missioni pericolose e difficil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Segnaposto contenuto 3" descr="donna bionica.jpg"/>
          <p:cNvPicPr/>
          <p:nvPr/>
        </p:nvPicPr>
        <p:blipFill>
          <a:blip r:embed="rId1"/>
          <a:stretch/>
        </p:blipFill>
        <p:spPr>
          <a:xfrm>
            <a:off x="2050920" y="2421000"/>
            <a:ext cx="47358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LIENI</a:t>
            </a:r>
            <a:br>
              <a:rPr sz="4400"/>
            </a:b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una forma di vita non originaria del pianeta Ter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Segnaposto contenuto 4" descr="Alieni-in-soffitta-Robert-Hoffman-Ashley-Tisdale-59_mid.jpg"/>
          <p:cNvPicPr/>
          <p:nvPr/>
        </p:nvPicPr>
        <p:blipFill>
          <a:blip r:embed="rId1"/>
          <a:stretch/>
        </p:blipFill>
        <p:spPr>
          <a:xfrm>
            <a:off x="507960" y="1627200"/>
            <a:ext cx="81280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Il linguagg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62120" y="1483920"/>
            <a:ext cx="7619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’ ricco di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termini specialistici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elle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scienz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, e in particolare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dell’informatica, della genetica, dell’astronomia, dell’ingegneria spaziale e della cibernetic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l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ritm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del racconto è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vivac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(sequenze narrative alternate a quelle descrittiv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l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dialog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è un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elemento importante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l racconto. Serve a svelare enigmi o a spiegare ipotesi scientifiche su cui si basa l’intrecc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La strut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ome nel racconto d’avventura, è caratterizzata dall’intrecci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vremo quindi salti cronologici con flashback e anticipazioni (flashforwar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Le tecniche narr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e principali tecniche narrative son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n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itmo incalza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, dato dal predominare di sequenze narrative e dialogat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a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uspens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, un artificio narrativo grazie al quale si tiene viva l’attenzione del lettore, catturato dal desiderio di sapere cosa sta per accad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Il narrat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62120" y="25142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l narratore può esse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ntern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, ossia uno dei personaggi e quindi direttamente partecipe dell’azione; scrive in prima person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stern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, scrive in terza perso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i aut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324000" y="156168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ima fantascienza fa emergere dalle prime conoscenze realmente "scientifiche“ le proiezione di timori e pericoli della scien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79280" y="2932200"/>
            <a:ext cx="280836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Frankenstein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(1818) di Mary W. Shelle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79280" y="4076640"/>
            <a:ext cx="398160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Lo strano caso del dottor Jekyll e Mister Hyd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(1886) di Robert Louis Stevenson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1" descr="frankenstein"/>
          <p:cNvPicPr/>
          <p:nvPr/>
        </p:nvPicPr>
        <p:blipFill>
          <a:blip r:embed="rId1"/>
          <a:stretch/>
        </p:blipFill>
        <p:spPr>
          <a:xfrm>
            <a:off x="5580000" y="3068640"/>
            <a:ext cx="2282760" cy="295272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225" name="Picture 14" descr="20307"/>
          <p:cNvPicPr/>
          <p:nvPr/>
        </p:nvPicPr>
        <p:blipFill>
          <a:blip r:embed="rId2"/>
          <a:stretch/>
        </p:blipFill>
        <p:spPr>
          <a:xfrm>
            <a:off x="5724360" y="2997360"/>
            <a:ext cx="2089440" cy="298440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777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es Ver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179280" y="1606680"/>
            <a:ext cx="532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ue macchine non erano frutto di pura immaginazione ma di intuizioni e studi realistici fondati sulle scienze e sulla tecnica dell'epo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l sommergibile del capitano Nem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'apparecchio volante di Robu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mezzi per le ricerche subacque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veicoli spazial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missili teleguidat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trasmissioni telefoniche e televisi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250920" y="546588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rio questa immensa fiducia nel progresso e questo generale ottimismo sono alla base di tutta la narrativa fantascientifica. restando per lo più legato alla propria epoca senza ipotizzare cambiamenti soci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9" descr="jules-verne"/>
          <p:cNvPicPr/>
          <p:nvPr/>
        </p:nvPicPr>
        <p:blipFill>
          <a:blip r:embed="rId1"/>
          <a:stretch/>
        </p:blipFill>
        <p:spPr>
          <a:xfrm>
            <a:off x="6156360" y="2708280"/>
            <a:ext cx="2076480" cy="184788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G. Wells (1866 - 1946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11" descr="time"/>
          <p:cNvPicPr/>
          <p:nvPr/>
        </p:nvPicPr>
        <p:blipFill>
          <a:blip r:embed="rId1"/>
          <a:stretch/>
        </p:blipFill>
        <p:spPr>
          <a:xfrm>
            <a:off x="900000" y="3789360"/>
            <a:ext cx="1714680" cy="247644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sp>
        <p:nvSpPr>
          <p:cNvPr id="232" name="Rectangle 5"/>
          <p:cNvSpPr/>
          <p:nvPr/>
        </p:nvSpPr>
        <p:spPr>
          <a:xfrm>
            <a:off x="179280" y="102096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"scientific romances" di H. G. Wells sono più aperti verso l'immaginazione fantastica e l'estrapolazione sociale. Egli inventa con notevole fantasia il "suo futuro" lasciando sullo sfondo l'aspetto propriamente scienti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79280" y="2244960"/>
            <a:ext cx="5040360" cy="1557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suo primo romanz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cchina del Temp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prime il suo senso del futuro e la coscienza delle ingiustizie soci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4140360" y="5378760"/>
            <a:ext cx="496872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guerra dei mond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l 1898, ove faranno la loro comparsa gli alieni, i Marziani che invadono la t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9" descr="wells"/>
          <p:cNvPicPr/>
          <p:nvPr/>
        </p:nvPicPr>
        <p:blipFill>
          <a:blip r:embed="rId2"/>
          <a:stretch/>
        </p:blipFill>
        <p:spPr>
          <a:xfrm>
            <a:off x="6029280" y="2492280"/>
            <a:ext cx="2143080" cy="273528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236" name="Picture 14" descr="hg_wells"/>
          <p:cNvPicPr/>
          <p:nvPr/>
        </p:nvPicPr>
        <p:blipFill>
          <a:blip r:embed="rId3"/>
          <a:stretch/>
        </p:blipFill>
        <p:spPr>
          <a:xfrm>
            <a:off x="271440" y="3789360"/>
            <a:ext cx="3724200" cy="252396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Asimov (1920 – 199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7" descr="082704-asimov"/>
          <p:cNvPicPr/>
          <p:nvPr/>
        </p:nvPicPr>
        <p:blipFill>
          <a:blip r:embed="rId1"/>
          <a:stretch/>
        </p:blipFill>
        <p:spPr>
          <a:xfrm>
            <a:off x="6227640" y="2205000"/>
            <a:ext cx="1590840" cy="208584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239" name="Picture 11" descr="20040525-yo_robot"/>
          <p:cNvPicPr/>
          <p:nvPr/>
        </p:nvPicPr>
        <p:blipFill>
          <a:blip r:embed="rId2"/>
          <a:stretch/>
        </p:blipFill>
        <p:spPr>
          <a:xfrm>
            <a:off x="6588000" y="4508640"/>
            <a:ext cx="1351080" cy="218592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240" name="Picture 14" descr="ASIMOV_abissi0"/>
          <p:cNvPicPr/>
          <p:nvPr/>
        </p:nvPicPr>
        <p:blipFill>
          <a:blip r:embed="rId3"/>
          <a:stretch/>
        </p:blipFill>
        <p:spPr>
          <a:xfrm>
            <a:off x="900000" y="4365720"/>
            <a:ext cx="1297080" cy="218736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sp>
        <p:nvSpPr>
          <p:cNvPr id="241" name="Rectangle 5"/>
          <p:cNvSpPr/>
          <p:nvPr/>
        </p:nvSpPr>
        <p:spPr>
          <a:xfrm>
            <a:off x="395280" y="13924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mov è un creatore geniale di intrecci, e il finale a sorpresa che egli adopera è tipico del genere "giallo", o polizies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431640" y="2130120"/>
            <a:ext cx="4572000" cy="1922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issi d'acciai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sole nudo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o tra i migliori gialli fantascientifici con esempi di "delitto perfetto" e di indagini polizies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17" descr="ASIMOV_sole0"/>
          <p:cNvPicPr/>
          <p:nvPr/>
        </p:nvPicPr>
        <p:blipFill>
          <a:blip r:embed="rId4"/>
          <a:stretch/>
        </p:blipFill>
        <p:spPr>
          <a:xfrm>
            <a:off x="3851280" y="4437000"/>
            <a:ext cx="1281240" cy="218772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Il term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26560" y="1773360"/>
            <a:ext cx="76201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termine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“fantascienza” è dato dall’unione di due nomi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fanta[sia] + sci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artendo da </a:t>
            </a:r>
            <a:r>
              <a:rPr b="0" lang="it-IT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ipotesi scientifiche o tecnologiche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gli autori costruiscono romanzi e racconti che ipotizzano </a:t>
            </a:r>
            <a:r>
              <a:rPr b="0" lang="it-IT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mondi o realtà diversi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creati dalla fantasia, ma allo stesso tempo</a:t>
            </a:r>
            <a:r>
              <a:rPr b="0" lang="it-IT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credibili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antascienza non è Fanta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179280" y="1341360"/>
            <a:ext cx="8642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elemento fantastico è preponderan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icende si svolgono in mondi immaginari diversi dal nostr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icende sono caratterizzate dall'uso della magi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mente sono presenti eroi epici con una missione da compier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presenti creature mitologiche, quali ad esempio draghi ed unicorn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Fanta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9" descr="poster_il-signore-degli-anelli-il-ritorno-del-re"/>
          <p:cNvPicPr/>
          <p:nvPr/>
        </p:nvPicPr>
        <p:blipFill>
          <a:blip r:embed="rId1"/>
          <a:stretch/>
        </p:blipFill>
        <p:spPr>
          <a:xfrm>
            <a:off x="684360" y="1557360"/>
            <a:ext cx="3240000" cy="456876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181" name="Picture 11" descr="fant4"/>
          <p:cNvPicPr/>
          <p:nvPr/>
        </p:nvPicPr>
        <p:blipFill>
          <a:blip r:embed="rId2"/>
          <a:stretch/>
        </p:blipFill>
        <p:spPr>
          <a:xfrm>
            <a:off x="4835520" y="1628640"/>
            <a:ext cx="3660840" cy="449748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9"/>
          <p:cNvSpPr/>
          <p:nvPr/>
        </p:nvSpPr>
        <p:spPr>
          <a:xfrm>
            <a:off x="468360" y="1628640"/>
            <a:ext cx="81360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ntascienza tecnologica come letteratura che esalta lo sviluppo della tecnolo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611280" y="765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UE GRANDI FILONI DELLA FANTASCIENZ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22200" y="3213000"/>
            <a:ext cx="84978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ntascienza sociologica come letteratura che mette in guardia contro le più pericolose tendenze attuali della sci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Il tempo della narrazi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2286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l tempo della narrazione è quasi sempre il 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</a:rPr>
              <a:t>FUTUR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uò comunque accadere che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l presente, oppure il passato e il futuro vengano mescolati insieme attraverso un espediente, quello della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macchina del temp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lang="it-IT" sz="4400" spc="-1" strike="noStrike">
                <a:solidFill>
                  <a:srgbClr val="ff0000"/>
                </a:solidFill>
                <a:latin typeface="Verdana"/>
              </a:rPr>
              <a:t>luoghi</a:t>
            </a: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 della narrazi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762120" y="1773000"/>
            <a:ext cx="76197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ossono esse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la Terr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:immaginata nella sua realtà quotidiana o in situazioni estreme (guerre, esplosioni nucleari, disastri ambienta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gli spazi extraterrestri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: altri pianeti, altre galassie descritti in base a conoscenze scientifiche reali o del tutto immaginar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astronavi, stazioni orbitanti, centri di ricerc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che collocati sotto la superficie terrest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el primo caso il lettore viene tranquillizzato, sentendosi a suo agio in luoghi a lui noti. Così maggiore sarà la sua sorpresa a mano a mano che il racconto comincerà a sviluppars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Quando invece i luoghi della narrazione sono gli spazi extraterrestri, da subito compaiono il mistero e il pericol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Segnaposto contenuto 3" descr="astronave.png"/>
          <p:cNvPicPr/>
          <p:nvPr/>
        </p:nvPicPr>
        <p:blipFill>
          <a:blip r:embed="rId1"/>
          <a:stretch/>
        </p:blipFill>
        <p:spPr>
          <a:xfrm>
            <a:off x="2050920" y="1989000"/>
            <a:ext cx="43214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17:01:36Z</dcterms:created>
  <dc:creator>drang</dc:creator>
  <dc:description/>
  <dc:language>en-US</dc:language>
  <cp:lastModifiedBy>Marco</cp:lastModifiedBy>
  <dcterms:modified xsi:type="dcterms:W3CDTF">2013-09-16T19:18:51Z</dcterms:modified>
  <cp:revision>71</cp:revision>
  <dc:subject/>
  <dc:title>Il racconto d’avventura</dc:title>
</cp:coreProperties>
</file>